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.wmf" ContentType="image/x-wmf"/>
  <Override PartName="/ppt/media/image2.png" ContentType="image/png"/>
  <Override PartName="/ppt/media/image1.png" ContentType="image/png"/>
  <Override PartName="/ppt/media/image14.png" ContentType="image/png"/>
  <Override PartName="/ppt/media/image27.wmf" ContentType="image/x-wmf"/>
  <Override PartName="/ppt/media/image16.png" ContentType="image/png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8BD4-9CB6-428E-92C5-8CA231AD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y PMF probability mass function – if you think of probability as a physical weight – and the x axis as the position, then computing E[x] is like computing where the center of mass will be on the x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631-27E5-4640-ABB3-08758D4D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351-EAC4-4DB0-94B7-1EE822D7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0F7-E728-4DFD-9C82-6D05D437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89B-95D5-4BD3-9126-371D83E1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810-C37B-4F30-B80E-7679A2C6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553-FC25-4383-867B-992BCB64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13B-C83A-4108-9F98-C092D8A0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8EF-E8C4-4BB6-B99A-79D01F81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09F-715F-4057-99E6-CFF2781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062-A780-43D2-8CE8-BE40C29C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F6B-969F-41A0-9A69-B4284CB9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496-140D-4547-9D23-DD62D203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8475-C167-48A8-9706-5B7BC00BC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Random Variab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92280" y="460440"/>
            <a:ext cx="46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nomial Random Variable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File:Binomial distribution pmf.svg"/>
          <p:cNvPicPr/>
          <p:nvPr/>
        </p:nvPicPr>
        <p:blipFill>
          <a:blip r:embed="rId1"/>
          <a:stretch/>
        </p:blipFill>
        <p:spPr>
          <a:xfrm>
            <a:off x="4572000" y="1066680"/>
            <a:ext cx="4133880" cy="2752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File:Binomial distribution cdf.svg"/>
          <p:cNvPicPr/>
          <p:nvPr/>
        </p:nvPicPr>
        <p:blipFill>
          <a:blip r:embed="rId2"/>
          <a:stretch/>
        </p:blipFill>
        <p:spPr>
          <a:xfrm>
            <a:off x="4495680" y="392436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018200" y="35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8200" y="6643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9960" y="13096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8640" y="39765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68040" y="2438280"/>
            <a:ext cx="238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(X) = np(1-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F(x;n,p) = \Pr(X \le x) = \sum_{i=0}^{\lfloor x \rfloor} {n\choose i}p^i(1-p)^{n-i}."/>
          <p:cNvPicPr/>
          <p:nvPr/>
        </p:nvPicPr>
        <p:blipFill>
          <a:blip r:embed="rId3"/>
          <a:stretch/>
        </p:blipFill>
        <p:spPr>
          <a:xfrm>
            <a:off x="438120" y="5181480"/>
            <a:ext cx="3753000" cy="51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 f(k;n,p) = \Pr(K = k) = {n\choose k}p^k(1-p)^{n-k}"/>
          <p:cNvPicPr/>
          <p:nvPr/>
        </p:nvPicPr>
        <p:blipFill>
          <a:blip r:embed="rId4"/>
          <a:stretch/>
        </p:blipFill>
        <p:spPr>
          <a:xfrm>
            <a:off x="457200" y="1752480"/>
            <a:ext cx="34574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90480" y="46044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ometric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066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number of tosses until you get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51240" y="5943600"/>
            <a:ext cx="5321160" cy="495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40160" y="443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540160" y="32922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43000" y="2987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18600" y="4221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9120" y="3673440"/>
            <a:ext cx="9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82160" y="4511520"/>
            <a:ext cx="912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08480" y="443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08480" y="329220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11320" y="2987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86920" y="4221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32920" y="3673440"/>
            <a:ext cx="1109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55880" y="4511520"/>
            <a:ext cx="1178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43080" y="2682720"/>
            <a:ext cx="1283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H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12/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17520" y="2666880"/>
            <a:ext cx="1099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48/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11720" y="4435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111720" y="329220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14920" y="298764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90520" y="422100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79640" y="3673440"/>
            <a:ext cx="1275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65600" y="4511520"/>
            <a:ext cx="1344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1720" y="2682720"/>
            <a:ext cx="1382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T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T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H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3/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3320" y="2475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3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5440" y="4876920"/>
            <a:ext cx="26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ed 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 = k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60800" y="46044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ometric Random Variable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715000" y="685800"/>
            <a:ext cx="6629400" cy="4038480"/>
            <a:chOff x="5715000" y="685800"/>
            <a:chExt cx="6629400" cy="4038480"/>
          </a:xfrm>
        </p:grpSpPr>
        <p:pic>
          <p:nvPicPr>
            <p:cNvPr id="268" name="" descr="File:Geometric pmf.svg"/>
            <p:cNvPicPr/>
            <p:nvPr/>
          </p:nvPicPr>
          <p:blipFill>
            <a:blip r:embed="rId1"/>
            <a:stretch/>
          </p:blipFill>
          <p:spPr>
            <a:xfrm>
              <a:off x="5715000" y="1218960"/>
              <a:ext cx="64292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915400" y="685800"/>
              <a:ext cx="3429000" cy="403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89960" y="13096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8640" y="39765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 f(k;n,p) = \Pr(K = k) = {n\choose k}p^k(1-p)^{n-k}"/>
          <p:cNvPicPr/>
          <p:nvPr/>
        </p:nvPicPr>
        <p:blipFill>
          <a:blip r:embed="rId2"/>
          <a:stretch/>
        </p:blipFill>
        <p:spPr>
          <a:xfrm>
            <a:off x="457200" y="1752480"/>
            <a:ext cx="3457440" cy="486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F(x;n,p) = \Pr(X \le x) = \sum_{i=0}^{\lfloor x \rfloor} {n\choose i}p^i(1-p)^{n-i}."/>
          <p:cNvPicPr/>
          <p:nvPr/>
        </p:nvPicPr>
        <p:blipFill>
          <a:blip r:embed="rId3"/>
          <a:stretch/>
        </p:blipFill>
        <p:spPr>
          <a:xfrm>
            <a:off x="533520" y="4572000"/>
            <a:ext cx="3752640" cy="514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23880" y="4572000"/>
            <a:ext cx="3429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1676520"/>
            <a:ext cx="3429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(1 - p)^{k-1}\,p\!"/>
          <p:cNvPicPr/>
          <p:nvPr/>
        </p:nvPicPr>
        <p:blipFill>
          <a:blip r:embed="rId4"/>
          <a:stretch/>
        </p:blipFill>
        <p:spPr>
          <a:xfrm>
            <a:off x="1523880" y="1905120"/>
            <a:ext cx="933480" cy="218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1-(1 - p)^k\!"/>
          <p:cNvPicPr/>
          <p:nvPr/>
        </p:nvPicPr>
        <p:blipFill>
          <a:blip r:embed="rId5"/>
          <a:stretch/>
        </p:blipFill>
        <p:spPr>
          <a:xfrm>
            <a:off x="1676520" y="4724280"/>
            <a:ext cx="961920" cy="2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Geometric cdf.svg"/>
          <p:cNvPicPr/>
          <p:nvPr/>
        </p:nvPicPr>
        <p:blipFill>
          <a:blip r:embed="rId6"/>
          <a:stretch/>
        </p:blipFill>
        <p:spPr>
          <a:xfrm>
            <a:off x="5791320" y="4257720"/>
            <a:ext cx="6095880" cy="26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839080" y="4267080"/>
            <a:ext cx="342900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\frac{1-p}{p^2}\!"/>
          <p:cNvPicPr/>
          <p:nvPr/>
        </p:nvPicPr>
        <p:blipFill>
          <a:blip r:embed="rId7"/>
          <a:stretch/>
        </p:blipFill>
        <p:spPr>
          <a:xfrm>
            <a:off x="2400480" y="3200400"/>
            <a:ext cx="419040" cy="428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\frac{1}{p}\!"/>
          <p:cNvPicPr/>
          <p:nvPr/>
        </p:nvPicPr>
        <p:blipFill>
          <a:blip r:embed="rId8"/>
          <a:stretch/>
        </p:blipFill>
        <p:spPr>
          <a:xfrm>
            <a:off x="1600200" y="2514600"/>
            <a:ext cx="104760" cy="4287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762840" y="25146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4280" y="320040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2644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566040" cy="524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371600" y="4719600"/>
            <a:ext cx="36576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81880" cy="6156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4920" y="556272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64040" y="460440"/>
            <a:ext cx="50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ependence of Random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66720" y="1371600"/>
            <a:ext cx="7105680" cy="866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09480" y="3871800"/>
            <a:ext cx="5626080" cy="484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95360" y="4303800"/>
            <a:ext cx="7810560" cy="6490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8153640" cy="6444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609480" y="3040200"/>
            <a:ext cx="784872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59360" y="4604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me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4880" y="1143000"/>
            <a:ext cx="59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it mean for 2 experiments to be independ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0160" y="1995480"/>
            <a:ext cx="70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derive the properties of binomial random variables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oulli random variabl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920" y="460440"/>
            <a:ext cx="599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PMFs of more than one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- conditional P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20976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380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attribute of an experimental out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78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533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523880"/>
          <a:ext cx="518004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518004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321012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088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s of Rando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4*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H – E(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          1 if H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if H &gt;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0" y="2666880"/>
            <a:ext cx="78732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28800" y="2286000"/>
            <a:ext cx="533520" cy="609480"/>
          </a:xfrm>
          <a:custGeom>
            <a:avLst/>
            <a:gdLst>
              <a:gd name="textAreaLeft" fmla="*/ 340920 w 533520"/>
              <a:gd name="textAreaRight" fmla="*/ 533880 w 5335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533520"/>
            <a:ext cx="822960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average of all possible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x]  = ∑ [ x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57400"/>
            <a:ext cx="82296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spread of the PMF around the expecte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(X – E(X)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(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4114800"/>
            <a:ext cx="3809880" cy="65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3680" y="4049640"/>
            <a:ext cx="384804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60640" y="1447920"/>
            <a:ext cx="3210120" cy="3657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3808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s of Random Variables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 =         1 if h &lt;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 if h &gt;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(H) = 1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(Y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365960" y="1600200"/>
            <a:ext cx="78732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7920" y="1371600"/>
            <a:ext cx="533160" cy="609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799160"/>
            <a:ext cx="70106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for any var.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unc. g(X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 = g(X): E(Y) = ∑ [ g(X)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008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29240" y="700200"/>
            <a:ext cx="885960" cy="823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3720" y="46044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rnoulli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7280" y="1066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  Toss coi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2666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828800"/>
            <a:ext cx="16002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2133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62160" y="3008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276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980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39760" y="2286000"/>
            <a:ext cx="3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0080" y="1995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8200" y="3809880"/>
            <a:ext cx="55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xperiments with 2 possible outcome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s a person healthy or si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 you like a song on pandora.c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ill event A occur or no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8840" y="194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48480" y="1919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9200" y="1865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296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33560" y="41148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1) =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33560" y="45100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0) = 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2640" y="46044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rnoulli Random Variable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705720" y="838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666880"/>
            <a:ext cx="156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6440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1880" y="3008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3724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42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7280" y="10666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  Toss coin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1371600"/>
            <a:ext cx="22860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2286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58360" y="79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74320" y="1843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8560" y="18432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M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6480" y="27795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5240" y="3519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(X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11840" y="27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5560" y="3519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1-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4960" y="4205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D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705720" y="397656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5805360"/>
            <a:ext cx="156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4400" y="56530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1880" y="61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37240" y="61866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504280" y="565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4114800"/>
            <a:ext cx="228600" cy="1690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5424480"/>
            <a:ext cx="228600" cy="380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58360" y="393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74320" y="49816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06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93360" y="460440"/>
            <a:ext cx="37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nomial Random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33960" y="700200"/>
            <a:ext cx="885960" cy="82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3152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343640" y="700200"/>
            <a:ext cx="885960" cy="823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0200" y="1019160"/>
            <a:ext cx="273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number of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191120" y="344016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603108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934320" y="229680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2400" y="2373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2760" y="2155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40320" y="2895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40680" y="2678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4032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406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40320" y="3962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40680" y="3745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40320" y="4506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40680" y="4289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40320" y="5105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40680" y="4888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40320" y="56498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40680" y="54324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40320" y="6248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40680" y="6031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244944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31200" y="23083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34320" y="281916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2971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30840" y="2830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934320" y="3363840"/>
            <a:ext cx="272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351648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31200" y="3375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389700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04964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30840" y="39085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934320" y="441936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45720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31200" y="44308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934320" y="502884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1814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30840" y="5040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934320" y="557352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572616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31200" y="5584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934320" y="6171840"/>
            <a:ext cx="27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63244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30840" y="6183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248520" y="5725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37120" y="58784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488808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248520" y="4582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37480" y="4735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0120" y="3821040"/>
            <a:ext cx="372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180120" y="351648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8720" y="36687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754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248520" y="2449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37480" y="2602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81480" y="2830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336384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0240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181480" y="496404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549756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02040" y="5345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4430880"/>
            <a:ext cx="60948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83120" y="2133720"/>
            <a:ext cx="69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86000" y="236232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98600" y="266688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98240" y="28954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H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98600" y="320040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98240" y="342900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98240" y="37339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7880" y="39625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86000" y="426708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88880" y="44956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01480" y="487692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700760" y="51055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01480" y="54100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00760" y="563868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00760" y="6019920"/>
            <a:ext cx="6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700400" y="624852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3640" y="476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7600" y="4038480"/>
            <a:ext cx="269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zed Experi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osses: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heads: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6120" y="54259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 = k)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9400" y="2438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2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9400" y="2681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X=3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5360" y="3519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8880" y="5043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1880" y="2666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11880" y="3657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8360" y="4800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9432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61722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200640" y="700200"/>
            <a:ext cx="885960" cy="823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8458200" y="68580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8486640" y="700200"/>
            <a:ext cx="885960" cy="823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20000" y="58690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 C k)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-p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1520" y="2438280"/>
            <a:ext cx="33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x (¾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¼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7/128 = 0.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36480" y="2681280"/>
            <a:ext cx="34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x (¾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¼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8/256 = 0.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56440" y="6248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6592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80120" y="22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65920" y="1981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58200" y="29718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458200" y="3809880"/>
            <a:ext cx="15228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4952880"/>
            <a:ext cx="152280" cy="152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58200" y="548640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458200" y="3505320"/>
            <a:ext cx="152280" cy="152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2:18:49Z</dcterms:created>
  <dc:creator>Ben</dc:creator>
  <dc:description/>
  <dc:language>en-US</dc:language>
  <cp:lastModifiedBy>Ben</cp:lastModifiedBy>
  <dcterms:modified xsi:type="dcterms:W3CDTF">2010-12-01T03:25:42Z</dcterms:modified>
  <cp:revision>150</cp:revision>
  <dc:subject/>
  <dc:title>Discrete Random Variables 2</dc:title>
</cp:coreProperties>
</file>